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AE18-674D-47C0-9359-64AFCF128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B9AF-CA5A-457D-9336-4D3EFB997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7784-AA79-4C8D-A6BF-1212E8F37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EEC7-66AB-4A8F-A9CC-848EDF1B5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B915-7D82-4086-AC9C-40DAEB116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96C6-647D-4943-B480-CDC87D35D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7E80-E29E-4523-91FE-61F55DD94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1CB6-5D25-408D-AEB0-2C7D28DB4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CF50-6531-45D5-AA01-FE083B3FE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01AB-B0BD-4315-BAE2-538EFF80C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75B6-310D-4C89-BD0C-8F0B5BE1D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D1ED-3E87-43A2-91B4-F13CD85B2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EE6C-0CEC-4B8A-B21C-181A906E9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BAE1-C098-44E4-AF06-BD2A74D99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028E-7E36-4E4B-AFB2-58494E5E0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9EF8-9FF2-4247-9C78-B356E4BC4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AF42-AEC1-4A4E-B0B5-AD487ECCC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C485-6A9C-4009-AC0D-75445D009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1720-3E6C-420C-B3F5-4F0F03969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BEA2-D30C-4B97-922A-203A95808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4A66-F36C-46CF-8142-C00A1535B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114B-E8CE-4F7F-AE0D-1979B8819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C453-5859-4536-8E3C-DA8AB406B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3571-D241-4756-8AD5-BD97762EC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B115-7066-4DA1-B9A2-055C592CA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A27A-F1FB-4391-8CBA-769AED920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9A23-1869-4871-A65F-24A76C394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9C73-05D3-420F-9043-4EE31D404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6C92-5722-448D-AF17-86CC4C4CA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83FE-46A1-4D94-8F5C-B1F5A7370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FABD-6C80-4F7C-BCB9-CDCD04DA1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E410-F9C0-4ACA-9131-14851FC71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2DAF-A8C0-492B-8548-EFBA390EA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517F-7C14-4BCD-8DA8-E7417AC7B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4860-C9A1-4FEA-B8B6-BA138AF1D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21DF-A169-4326-B8A2-2855F8FB6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1688-50D7-4321-8EEE-61E28162F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35DF-701B-4017-A1D7-711C05BF1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40CC-C3C2-45E8-94A3-F2AB0227E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D062-0A28-423F-9A9E-0CD66DF45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A3B3-1320-423A-AF84-A1697720B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2C80-8FAD-439F-BEE5-3C33C70AC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E56F-82EB-4492-B85C-C155FED00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6AF3-6E0F-410A-BF92-8ED61433A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4DBF-7B67-4D04-9A47-4EFAF623C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35D0-B911-4966-A29E-46EB8E092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06EE-4B98-4BCC-96BD-434F75951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1016-EF0C-4167-ACE8-784B70374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950C-0A22-4897-AB6D-1F8DFB9AC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3135-BE8E-4A58-9E33-8E1062668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E839-FC89-4350-B000-A3BC630A9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FA52-A9F4-405F-A0F6-DB05A92A1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D146-206C-49AD-A3EB-0FA13618A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0B6-3932-4EDF-B547-FBB20D69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A30-821B-4966-BADC-3D8D075D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49B-6003-49A4-8A8E-922E1943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D4A-7240-4115-87C6-970A56C2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CC8A-B6E6-43D5-9CF9-BC59D30A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C706-4591-447E-B24D-8786722F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8A55-AFA8-47F5-94C9-1C3FA014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0FAB-5322-4A70-A45F-F37B7D20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6D47-6572-49CA-AC39-B401C188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8A9F-9EE7-4A17-B995-DF5AF02F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C85D-3641-4631-A202-91EC42B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DBE-91A2-4935-8242-999B24E2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B10A-62CC-428F-BA27-F5BE89F8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4E4E-1A54-4B0B-BC68-71A06A9E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5E87-FF0E-4D2C-BC85-9F9111EB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3D8A-2C35-4F9B-8430-7C1320DA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9731-CAA1-42F3-A1E1-FDBB2D19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19B-F57A-4C82-9C31-A144DF2B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926-7D84-41B8-BA56-C2EC9540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D31-0F48-41AF-A3D5-A77A144B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9F3-C168-4C18-B8C0-EA1F8DB8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80B-0DFD-4FB8-84F5-37EF3FCC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DEC-1480-46ED-9536-9DC89190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948-18D0-4E42-9F2B-80A55C8C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ABF6-6EAC-4323-95F8-37E91E733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095720"/>
            <a:ext cx="709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suffered a stro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dbury was born in 199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, he was born in 19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did not go to colle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was married three tim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, he was only married one tim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died in Los Angles Californ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ue/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wa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Fahrenheit 451 written by Ra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/N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To kill a MockingBird written by R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 or 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the Pendulum written by Ra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/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 it w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Something Wicked This Way Comes written by Ra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many kids did Ray hav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,2,3,or 4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 it w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once won a 2003 country music awar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got an impact crater on the moon named after one of his book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got a meteor named after hi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got a rover landing site named after him on the planet Ma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had 4 k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Ray’s wife’s nam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san, Marguerite, Molly, Margaret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’s wife’s name is Marguerit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dbury was friends with what creator of a famous movie seri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 Roddenberry(Star Trek), George Lucas(Star Wars), or J.K Rowling( Harry Pott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 Roddenber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ed to Ray in 1999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suffered a stroke, He was diagnosed with cancer, he had to get operated 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mormat17</cp:lastModifiedBy>
  <dcterms:modified xsi:type="dcterms:W3CDTF">2013-11-01T16:59:42Z</dcterms:modified>
  <cp:revision>25</cp:revision>
  <dc:subject>Jeopardy Template</dc:subject>
  <dc:title>POWERPOINT JEOPARDY</dc:title>
</cp:coreProperties>
</file>